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8F69-003F-43BF-AE19-A1AB913A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168-2DCF-476B-955B-CCFE8472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E57-865A-4B85-B350-36626D51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8D6-13CB-40CD-A59E-46410AB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C32-94D2-4CC1-923A-95C0970C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817-0E5D-447B-888D-678758CB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88D-CA22-42D9-A6FA-35836E93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193-4120-4A8F-93BC-B052DBB8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B27-EA5F-41EE-A1E2-5E4C5B6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76C-6294-4C4F-9A93-702DA0A1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DAA-2C89-4A6F-A36F-5A4A18E3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168-7C8E-4071-83E3-7F7DC4D3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2BF-88D8-46C1-835C-28224C3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35B-88B2-4AA9-A45F-24C0FFA4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C910-32A0-4FA5-A2E4-52EC53316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816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Yo voy a una escuela de ninas que se llama tywls of astoria.  Yo tengo dos hermanas. Mis herma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n altas. Yo soy Simpatica y divertida. Yo estoy feliz. Yo amo la musica. Espero  qué nosotros somos ami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36360" y="5430960"/>
            <a:ext cx="64008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73392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gracias mi linda, dulce amiga. Yo estoy en mi ca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 Escribiendo mi poema con mi Pequeña hermanas y escuchando mús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enemos qué escribir una poema para escuela.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4038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as tardes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. ¿Cómo están y que hacen y en dónde estás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449568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qué bien. Yo estoy comendo y estoy aburrida . Y está bien.  Nosotros estamos felices de  nuest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do. ¿Tú tienes una hermana y Sus papas están en la casa?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029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0292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y qué bueno. Ustedes son muy inteligente.                                     Man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63868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638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Tus hermanas son enérgic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también eres inteligente y si son enérgic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mos amigas simpát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adió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Photo on 2011-10-21 at 13.53 #2.jpg"/>
          <p:cNvPicPr/>
          <p:nvPr/>
        </p:nvPicPr>
        <p:blipFill>
          <a:blip r:embed="rId12"/>
          <a:stretch/>
        </p:blipFill>
        <p:spPr>
          <a:xfrm>
            <a:off x="2041560" y="62485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2666880" y="6248520"/>
            <a:ext cx="4114800" cy="4572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u. Hasta lueg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8:48Z</dcterms:modified>
  <cp:revision>118</cp:revision>
  <dc:subject/>
  <dc:title>Profile</dc:title>
</cp:coreProperties>
</file>